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39C13-FADF-4CB5-BDB1-935009F5D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BB36F-F4E8-4F67-BD81-7AFE22CD5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92FA5-C4BC-42F5-B4FD-B262B780F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BD518-1F75-4C1E-8990-9EC58907E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CC3F3-1A54-4C74-BFC5-21070A1EA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E78EC-AD16-491E-9164-518AFD920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6091E-868A-471D-B2D6-C2E52AF55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FB8D2-8A66-4ED9-9353-64B039D39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46A13-029C-4C57-9A8F-13722B451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67B58-12FF-440C-AC97-D02A78DD0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BCE6C-79C3-4704-A470-B53C6323E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17A6E-0AF0-4B82-BE91-1C5ED9E7F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92697-CCE2-4BFE-AF3C-BB26C344E8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artome.org/panopticon2.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tech-faq.com/trojan-horse-virus.shtml" TargetMode="External"/><Relationship Id="rId2" Type="http://schemas.openxmlformats.org/officeDocument/2006/relationships/hyperlink" Target="http://www.tech-faq.com/trojan-horse-virus.shtml"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n.wikipedia.org/wiki/Transponder"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CT 205</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ill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chel Foucault</a:t>
            </a:r>
            <a:br>
              <a:rPr sz="4000"/>
            </a:br>
            <a:r>
              <a:rPr b="0" lang="en-US" sz="4000" spc="-1" strike="noStrike">
                <a:solidFill>
                  <a:srgbClr val="000000"/>
                </a:solidFill>
                <a:latin typeface="Arial"/>
              </a:rPr>
              <a:t>Discipline and Punishment (1979)</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figure in surveillance stud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amp; power always conjoi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innocent knowledge; always an expression of power relationship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iscipline and Punishment: the Birth of the Prison (1979)</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s shift from punishment to discipline, from public executions (spectacle) to rehabilitation demanding need for information about crime,  criminals &amp; circumstances of crime = more need for records in &amp; outside of prison &amp; new forms of record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tham’s Panoptico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3" name="Rectangle 4"/>
          <p:cNvSpPr/>
          <p:nvPr/>
        </p:nvSpPr>
        <p:spPr>
          <a:xfrm>
            <a:off x="8757720" y="1730880"/>
            <a:ext cx="380520" cy="2660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Verdana"/>
                <a:hlinkClick r:id="rId1" action="ppaction://hlinksldjump"/>
              </a:rPr>
              <a:t>top</a:t>
            </a:r>
            <a:endParaRPr b="0" lang="en-US" sz="1000" spc="-1" strike="noStrike">
              <a:solidFill>
                <a:srgbClr val="000000"/>
              </a:solidFill>
              <a:latin typeface="Arial"/>
            </a:endParaRPr>
          </a:p>
        </p:txBody>
      </p:sp>
      <p:graphicFrame>
        <p:nvGraphicFramePr>
          <p:cNvPr id="64" name=""/>
          <p:cNvGraphicFramePr/>
          <p:nvPr/>
        </p:nvGraphicFramePr>
        <p:xfrm>
          <a:off x="0" y="1981080"/>
          <a:ext cx="9144000" cy="4145040"/>
        </p:xfrm>
        <a:graphic>
          <a:graphicData uri="http://schemas.openxmlformats.org/drawingml/2006/table">
            <a:tbl>
              <a:tblPr/>
              <a:tblGrid>
                <a:gridCol w="9144000"/>
              </a:tblGrid>
              <a:tr h="4147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400" spc="-1" strike="noStrike">
                          <a:solidFill>
                            <a:srgbClr val="000000"/>
                          </a:solidFill>
                          <a:latin typeface="Verdana"/>
                        </a:rPr>
                        <a:t> </a:t>
                      </a:r>
                      <a:r>
                        <a:rPr b="0" lang="en-US" sz="1800" spc="-1" strike="noStrike">
                          <a:solidFill>
                            <a:srgbClr val="000000"/>
                          </a:solidFill>
                          <a:latin typeface="Arial"/>
                        </a:rPr>
                        <a:t>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5" name="Picture 6" descr="Benthamdesignpanopticon"/>
          <p:cNvPicPr/>
          <p:nvPr/>
        </p:nvPicPr>
        <p:blipFill>
          <a:blip r:embed="rId2"/>
          <a:stretch/>
        </p:blipFill>
        <p:spPr>
          <a:xfrm>
            <a:off x="3352680" y="2209680"/>
            <a:ext cx="2857680" cy="293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Panoptico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inois State Prison</a:t>
            </a:r>
            <a:endParaRPr b="0" lang="en-US" sz="3200" spc="-1" strike="noStrike">
              <a:solidFill>
                <a:srgbClr val="000000"/>
              </a:solidFill>
              <a:latin typeface="Arial"/>
            </a:endParaRPr>
          </a:p>
        </p:txBody>
      </p:sp>
      <p:pic>
        <p:nvPicPr>
          <p:cNvPr id="68" name="Picture 5" descr="Benthampanopticon9-22-02"/>
          <p:cNvPicPr/>
          <p:nvPr/>
        </p:nvPicPr>
        <p:blipFill>
          <a:blip r:embed="rId1"/>
          <a:stretch/>
        </p:blipFill>
        <p:spPr>
          <a:xfrm>
            <a:off x="2362320" y="2057400"/>
            <a:ext cx="4457520" cy="377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on Panopticon</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Bentham's panopticon work to control behavior?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informational panopticon affect individual liberty?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big databases that track consumer behavior contribute to the loss of liberty and/or privacy?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a loss of privacy impact our freedom to act spontaneously?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privacy- reducing initiatives sold to the publi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nopticon #1</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rison regime = need for continuous surveill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spatial and social organization of po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tham’s Panopticon = architectural design for prisons which allowed many to be watched by a few who could not be se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 with knowledge that prisoners could be subject to continuous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nopticon #2</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ces in prisoner a state of conscious and permanent visibility assuring automatic pow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observing of prisoner by inspect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soner knows himself to be observed or can be observed at every/any mo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opticon = epitome of social control; paradigm of modern disciplin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remy Bentham</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tham was a lawyer and social activist with an agenda to improve the lives of the powerless in his cultu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king to improve upon the abhorrent prison conditions that predominated in Britain at the time, Bentham designed the panopticon as the modern model for a rehabilitative pris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neral idea behind the design is that prisoners are distributed around a centrally located watch tow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soners were able to view the tower and knew they were being watched (which theoretically should have induced behavioral changes) while the guards surveyed all of the prisoners easily from the tow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condary benefit for the prisoners was an opportunity to be in an isolated environment that provided time for contemplation of the behavior that brought them to pris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caul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tham's </a:t>
            </a:r>
            <a:r>
              <a:rPr b="0" lang="en-US" sz="2400" spc="-1" strike="noStrike" u="sng">
                <a:solidFill>
                  <a:srgbClr val="009999"/>
                </a:solidFill>
                <a:uFillTx/>
                <a:latin typeface="Arial"/>
                <a:hlinkClick r:id="rId1"/>
              </a:rPr>
              <a:t>Panopticon</a:t>
            </a:r>
            <a:r>
              <a:rPr b="0" lang="en-US" sz="2400" spc="-1" strike="noStrike">
                <a:solidFill>
                  <a:srgbClr val="000000"/>
                </a:solidFill>
                <a:latin typeface="Arial"/>
              </a:rPr>
              <a:t>  at the periphery, a building; at the centre, a tow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er is pierced with wide windows that open onto the inner side of the ring; the building is divided into cells, each of which extends the whole width of the building; they have two windows, one on the inside, the other, on the outside, allows the light to cross the cell from one end to the oth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at is needed, then, is to place a supervisor in a central tower and to enclose in each cell a condemned pers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y the effect of backlighting, one can observe from the tower, standing out precisely against the light, the small captive shadows in the cells of the periphe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cault</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the major effect of the Panopticon: to induce in the inmate a state of conscious and permanent visibility that assures the automatic functioning of pow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verifiable: the inmate must never know whether he is being looked at t any one moment; but he must be sure that he may always be s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make the presence or absence of the inspector unverifiable, so that the prisoners, in their cells, cannot even see a shadow, Bentham envisaged not only venetian blinds on the windows of the central observation hall, but, on the inside, partitions that intersected the hall at right angles and, in order to pass from one quarter to the other, not doors but zig zag openings; for the slightest noise, a gleam of light, a brightness in a half-opened door would betray the presence of the guardi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nopticon is a machine for dissociating the see/being seen dyad: in the peripheral ring, one is totally seen, without ever seeing; in the central tower, one sees everything without ever being se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caul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actice of placing individuals under 'observation' is a natural extension of a justice imbued with disciplinary methods and examination procedures. Is it surprising that the cellular prison, with its regular chronologies, forced labour, its authorities of surveillance and registration, its experts in normality, who continue and multiply the functions of the judge, should have become the modern instrument of penalit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surprising that prisons resemble factories, schools, barracks, hospitals, which all resemble pris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illanc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changed landsca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has new technology changed the world of surveill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impact of these cha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we hea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surveillance a technological issue or is it a question of the management &amp; control of information within and between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nopticon as Metapho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 of new information and communications technologies are allowing the development of an ‘electronic panoptic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nitored by unseen forces, often automated, more than ever  bef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illance</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data:</a:t>
            </a:r>
            <a:endParaRPr b="0" lang="en-US" sz="3200" spc="-1" strike="noStrike">
              <a:solidFill>
                <a:srgbClr val="000000"/>
              </a:solidFill>
              <a:latin typeface="Arial"/>
            </a:endParaRPr>
          </a:p>
        </p:txBody>
      </p:sp>
      <p:pic>
        <p:nvPicPr>
          <p:cNvPr id="87" name="Picture 5" descr="who%27s_watching"/>
          <p:cNvPicPr/>
          <p:nvPr/>
        </p:nvPicPr>
        <p:blipFill>
          <a:blip r:embed="rId1"/>
          <a:stretch/>
        </p:blipFill>
        <p:spPr>
          <a:xfrm>
            <a:off x="2590920" y="2590920"/>
            <a:ext cx="3600360" cy="3647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illance </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Data:</a:t>
            </a:r>
            <a:endParaRPr b="0" lang="en-US" sz="3200" spc="-1" strike="noStrike">
              <a:solidFill>
                <a:srgbClr val="000000"/>
              </a:solidFill>
              <a:latin typeface="Arial"/>
            </a:endParaRPr>
          </a:p>
        </p:txBody>
      </p:sp>
      <p:pic>
        <p:nvPicPr>
          <p:cNvPr id="90" name="Picture 5" descr="what_they_watch"/>
          <p:cNvPicPr/>
          <p:nvPr/>
        </p:nvPicPr>
        <p:blipFill>
          <a:blip r:embed="rId1"/>
          <a:stretch/>
        </p:blipFill>
        <p:spPr>
          <a:xfrm>
            <a:off x="3048120" y="2590920"/>
            <a:ext cx="3095640" cy="3552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Surveillance Data</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s &amp; data marketers collect data from transactions &amp; web surf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ilers collect data on every transa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agencies collect data from tax returns, property tax records &amp; voting reco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Surveillance Data</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r records including keylogging software for all computers connected to a company network (on/off site; wired/wirel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networks use keylogging softwa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surfing records kept by your IS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recor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private video camera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tion of surveillance: you</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jan horse / spy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than 5% of executable files are spy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in 62 internet sites contain “drive by download” atta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es, celebrity sites, and illegal sites most likely to contain spy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University of Washington study,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yware: The Trojan Horse</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ware of ancient Greeks bearing gifts  during siege of Tro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thing that appears good, but conceals something harmful.</a:t>
            </a:r>
            <a:endParaRPr b="0" lang="en-US" sz="3200" spc="-1" strike="noStrike">
              <a:solidFill>
                <a:srgbClr val="000000"/>
              </a:solidFill>
              <a:latin typeface="Arial"/>
            </a:endParaRPr>
          </a:p>
        </p:txBody>
      </p:sp>
      <p:sp>
        <p:nvSpPr>
          <p:cNvPr id="99" name="Rectangle 4"/>
          <p:cNvSpPr/>
          <p:nvPr/>
        </p:nvSpPr>
        <p:spPr>
          <a:xfrm>
            <a:off x="0" y="2406240"/>
            <a:ext cx="91440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  </a:t>
            </a:r>
            <a:r>
              <a:rPr b="0" lang="en-US" sz="126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gt; </a:t>
            </a:r>
            <a:endParaRPr b="0" lang="en-US" sz="1800" spc="-1" strike="noStrike">
              <a:solidFill>
                <a:srgbClr val="000000"/>
              </a:solidFill>
              <a:latin typeface="Arial"/>
            </a:endParaRPr>
          </a:p>
        </p:txBody>
      </p:sp>
      <p:pic>
        <p:nvPicPr>
          <p:cNvPr id="100" name="Picture 5" descr="Greek soldiers building the original Trojan Horse">
            <a:hlinkClick r:id="rId2"/>
          </p:cNvPr>
          <p:cNvPicPr/>
          <p:nvPr/>
        </p:nvPicPr>
        <p:blipFill>
          <a:blip r:embed="rId3"/>
          <a:stretch/>
        </p:blipFill>
        <p:spPr>
          <a:xfrm>
            <a:off x="4724280" y="3581280"/>
            <a:ext cx="1905120" cy="2000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er Trojan Hors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i="1" lang="en-US" sz="2000" spc="-1" strike="noStrike">
                <a:solidFill>
                  <a:srgbClr val="000000"/>
                </a:solidFill>
                <a:latin typeface="Arial"/>
              </a:rPr>
              <a:t>computer</a:t>
            </a:r>
            <a:r>
              <a:rPr b="0" lang="en-US" sz="2000" spc="-1" strike="noStrike">
                <a:solidFill>
                  <a:srgbClr val="000000"/>
                </a:solidFill>
                <a:latin typeface="Arial"/>
              </a:rPr>
              <a:t> trojan horse = a program which appears to be something good, but actually conceals something b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ead by hiding it inside a distribution of normal softwa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2, the sendmail and OpenSSH packages were both used to hide trojan horses. This was done by an attacker who broke into the distribution sites for these software packages and replaced the original distributions with his own packag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common method of spreading a trojan horse is to send it via e-mail. The attacker will send the victim an e-mail with an attachment called something like "prettygirls.exe." When the victim opens the attachment to see the pretty girls, the trojan horse will infect his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milar technique for spreading trojan horses is to send files to unsuspecting users over chat systems like IRC, AIM, ICQ, MSN, or Yahoo Messen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Service Provider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us blocked its union’s web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s about information storage are hazy (at b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wide delegation of responsibility to IS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er Security: Disney Security</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ID c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g che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d linked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port linked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s lin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ark ent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new….</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ze of datab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that makes data collection and storage easier and cheap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not just the government anymore that collects personal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usion about what is and isn’t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ppery Slope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 high-tech prison opening Feb. 2006, inmates wear electronic wristbands that track their every movement and guards monitor cells using emotion recognition software. – BBC,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FID:</a:t>
            </a:r>
            <a:br>
              <a:rPr sz="4000"/>
            </a:br>
            <a:r>
              <a:rPr b="0" lang="en-US" sz="4000" spc="-1" strike="noStrike">
                <a:solidFill>
                  <a:srgbClr val="000000"/>
                </a:solidFill>
                <a:latin typeface="Arial"/>
              </a:rPr>
              <a:t>Radio Frequency Identification</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ic identification method, relying on storing and remotely retrieving data using devices called RFID tags or transponders </a:t>
            </a:r>
            <a:r>
              <a:rPr b="0" lang="en-US" sz="2800" spc="-1" strike="noStrike" u="sng">
                <a:solidFill>
                  <a:srgbClr val="009999"/>
                </a:solidFill>
                <a:uFillTx/>
                <a:latin typeface="Arial"/>
                <a:hlinkClick r:id="rId1"/>
              </a:rPr>
              <a:t>r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chaser may not be aware of RFID or able or able to remov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g can be read at a distance without consent – beyond sightline of rea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almost anywhere as an identification system: passports, food, pets, clothing with simple info or complex instru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 sniffers: Carnivor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a:t>
            </a:r>
            <a:r>
              <a:rPr b="0" lang="en-US" sz="2000" spc="-1" strike="noStrike">
                <a:solidFill>
                  <a:srgbClr val="000000"/>
                </a:solidFill>
                <a:latin typeface="Arial"/>
              </a:rPr>
              <a:t> Carnivore is a "network diagnostic tool" created by the U.S. Federal Bureau of Investigation (FBI) to assist in crime investigations. It is a secure computer platform running Windows/NT or Windows 2000 and application software developed by the FB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rnivore has drawn special attention, however, because of the large amount of Internet traffic it is capable of captur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BI typically installs Carnivore in an ISP data center when investigating individuals suspected of federal crimes such as terroris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nivore snoops essentially all data flowing through the network and saves the bits that fit a specific profile -- email sent or received from a particular user name, for example, or all data sent to Web sites from a particular IP address. Although the data of many other uninvolved people on the Net may flow through the Carnivore system, the FBI claims that the privacy of this data will not be compromis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ve by Download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e-by downloading is a catch-all name for software downloaded on your computer without your knowledge or interven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rive-by downloads sneak onto computers without the user’s knowledge or permiss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of the most common drive-by download carriers are songs from free music share sites, free screensavers, etc. Many of these install spyware that monitors your surfing habits, and then displays pop-ups that match your habi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if you invest a good chunk of your Internet time cruising sport sites, the spyware detects this, and it could then splash sporting apparel ads on your monito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e-by downloads can also attack your computer through e-mail spa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defend and protect ourselves from the possibility of privacy infringements in a digitally driven soci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gital Technologies &amp; Surveillance</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potential for surveill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exposure of citizens to surveill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capacity to store dat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vesting of transactional information from credit cards, direct debit exchanges, health &amp; welfare records, electoral regist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d circuit television cameras in urban cente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rise of information society = rise of a surveillance socie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vid Lyon</a:t>
            </a:r>
            <a:br>
              <a:rPr sz="4000"/>
            </a:br>
            <a:r>
              <a:rPr b="0" lang="en-US" sz="4000" spc="-1" strike="noStrike">
                <a:solidFill>
                  <a:srgbClr val="000000"/>
                </a:solidFill>
                <a:latin typeface="Arial"/>
              </a:rPr>
              <a:t>Surveillance Society (2001)</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ization magnify surveillance func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 of earlier spheres of monitoring and contr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 surveill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ization enhances and alters social proces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in govern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in bureaucrac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in the econo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bins &amp; Webster: Times of Technoculture (1999)</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formation Revolution’: no more than an intensification of processes set in motion when Scientific Management became the watch word of corporate capital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ddens on Surveillanc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illance =control of information and superintendence of the activities of some groups by oth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gathering &amp; storage key to state in its planning and control func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ized gathering, storage and control of information = crucial for administrative efficiency &amp; maintaining pow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evel of surveillance associated with totalitarian rule </a:t>
            </a:r>
            <a:r>
              <a:rPr b="0" lang="en-US" sz="1600" spc="-1" strike="noStrike">
                <a:solidFill>
                  <a:srgbClr val="000000"/>
                </a:solidFill>
                <a:latin typeface="Arial"/>
              </a:rPr>
              <a:t>(Anthony Giddens, The Nation State &amp; Violence, 1985</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illance and Control</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ylor (1947): scientific management = form of control of production process &amp; workers in modern corporate capitalis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 production &amp; mass consumption regulated through efficiency requiring management of inf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an at GM in 1920s: birth of modern marketing based on collection, aggregation &amp; dissemination of informa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oanism</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mpt to manage consumption through collection and processing of data on consumer behavi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data are used to sort populations into consuming typ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anism marked the beginning of post-Fordist era, when marketing began to dominate the process of produc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s method of marketing became a worldwide model by which business could create and nourish demand. Sloanism continues to be essential to the workings of the late-capitalist econom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ost-Fordist era society is no longer structured in terms of classes that are determined with respect to labour and production. Now society is structure in terms of consumer classes, i.e now its not where you work but where you shop that determines your place within the social structu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3T02:28:04Z</dcterms:created>
  <dc:creator>Sheridan</dc:creator>
  <dc:description/>
  <dc:language>en-US</dc:language>
  <cp:lastModifiedBy>Sheridan</cp:lastModifiedBy>
  <dcterms:modified xsi:type="dcterms:W3CDTF">2009-01-27T22:11:12Z</dcterms:modified>
  <cp:revision>55</cp:revision>
  <dc:subject/>
  <dc:title>CCT 205</dc:title>
</cp:coreProperties>
</file>